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E20A-12B2-4701-9F68-6655A4909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FA7F-22B7-4E96-83B2-F45ECB383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A223-4F13-4896-A47A-BF750B856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2C2B-162B-471C-A6FE-2BA58B0D8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03CB-73B7-4AD7-BA06-0B8735AD5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8B0D-B321-4F28-8F77-7322F2E50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592F-F535-49F9-A648-C4A7A175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4F03-BDE3-4D90-8A4F-63D4C7245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1D96-DFF7-4CA1-922C-843D2BD48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EA2A-FB4C-43CA-BD88-4F3D1B1A2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DCB8-D5F9-4B5D-BC2C-9AEC71233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DBD2-026B-49D3-8160-F5718316E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61C2-CC11-4BE9-B11D-395A9B347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64A-18D8-4240-8425-23C4D5DC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ADA-0646-4792-8AD9-06A34F8A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AFC-6D20-4A98-89DA-ED646B96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C40-B98A-4BED-9375-367185E4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9E2-F538-4287-81CD-BE1F1E09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D3E-0178-4B5A-B7B8-E0114A30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2FF-DC04-4DEA-B6D4-18D7A1CD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88E-9494-44AC-A438-60B58C33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21B-F127-4C06-98D7-799D06E0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1D7-39D1-45C9-9AD5-3ED88707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639-75CD-4CB6-95CF-46D831EC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DF4-DFE3-4D70-BD73-884AE8DB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6588-8EB9-4A8C-8F06-285F58C5E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guess their 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Michael-Phelps-breaks-100m-butterfly-record"/>
          <p:cNvPicPr/>
          <p:nvPr/>
        </p:nvPicPr>
        <p:blipFill>
          <a:blip r:embed="rId1"/>
          <a:stretch/>
        </p:blipFill>
        <p:spPr>
          <a:xfrm>
            <a:off x="2743200" y="152280"/>
            <a:ext cx="3762360" cy="5400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666880" y="5943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chael Phe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oprah-winfrey1"/>
          <p:cNvPicPr/>
          <p:nvPr/>
        </p:nvPicPr>
        <p:blipFill>
          <a:blip r:embed="rId2"/>
          <a:stretch/>
        </p:blipFill>
        <p:spPr>
          <a:xfrm>
            <a:off x="2743200" y="380880"/>
            <a:ext cx="3772080" cy="5400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590920" y="60199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rah Winf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a1c0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"/>
          <p:cNvSpPr/>
          <p:nvPr/>
        </p:nvSpPr>
        <p:spPr>
          <a:xfrm>
            <a:off x="236232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y 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krayfox\Documents\My Dropbox\~T^3 Instructor\MugShot.jpg"/>
          <p:cNvPicPr/>
          <p:nvPr/>
        </p:nvPicPr>
        <p:blipFill>
          <a:blip r:embed="rId1"/>
          <a:stretch/>
        </p:blipFill>
        <p:spPr>
          <a:xfrm>
            <a:off x="3352680" y="1874880"/>
            <a:ext cx="2533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al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60160"/>
            <a:ext cx="533412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 Pi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 Cos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er Wo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ylor Swi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 Barack Ob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l Way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ary Clin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ney Sp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Phel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ah Winfr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943600" y="1523880"/>
            <a:ext cx="2819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28/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/12/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30/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13/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/4/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/27/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/26/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2/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/30/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29/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/3/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6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6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al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 Pitt -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 Cosby- 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er Woods - 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ylor Swift -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 Barack Obama -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l Wayne -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ary Clinton -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ney Spears -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Phelps -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ah Winfrey – 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 Fox - 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5943600" y="1523880"/>
            <a:ext cx="2819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28/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/12/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30/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13/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/4/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/27/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/26/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2/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/30/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29/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/3/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A Caucasian male in his mid-40s with brown hair. He is wearing a black suit and white shirt with a black bow-tie."/>
          <p:cNvPicPr/>
          <p:nvPr/>
        </p:nvPicPr>
        <p:blipFill>
          <a:blip r:embed="rId1"/>
          <a:stretch/>
        </p:blipFill>
        <p:spPr>
          <a:xfrm>
            <a:off x="3548160" y="1890720"/>
            <a:ext cx="204768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1905120" y="53341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ad P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1676520" y="54673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ll C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2852640" y="1390680"/>
            <a:ext cx="34387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5e18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 "/>
          <p:cNvPicPr/>
          <p:nvPr/>
        </p:nvPicPr>
        <p:blipFill>
          <a:blip r:embed="rId1"/>
          <a:stretch/>
        </p:blipFill>
        <p:spPr>
          <a:xfrm>
            <a:off x="1952640" y="1928880"/>
            <a:ext cx="5238720" cy="3000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133720" y="51814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ger 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d43a022f140f0400eaaffbc34480bcf3"/>
          <p:cNvPicPr/>
          <p:nvPr/>
        </p:nvPicPr>
        <p:blipFill>
          <a:blip r:embed="rId1"/>
          <a:stretch/>
        </p:blipFill>
        <p:spPr>
          <a:xfrm>
            <a:off x="785880" y="762120"/>
            <a:ext cx="7572240" cy="6005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676520" y="8380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ylor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Portrait of Barack Obama"/>
          <p:cNvPicPr/>
          <p:nvPr/>
        </p:nvPicPr>
        <p:blipFill>
          <a:blip r:embed="rId2"/>
          <a:stretch/>
        </p:blipFill>
        <p:spPr>
          <a:xfrm>
            <a:off x="3381480" y="1809720"/>
            <a:ext cx="2381040" cy="3238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1752480" y="54100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ident Barack O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c24e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thumbnail"/>
          <p:cNvPicPr/>
          <p:nvPr/>
        </p:nvPicPr>
        <p:blipFill>
          <a:blip r:embed="rId1"/>
          <a:stretch/>
        </p:blipFill>
        <p:spPr>
          <a:xfrm>
            <a:off x="2967120" y="1752480"/>
            <a:ext cx="3529080" cy="4343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590920" y="4572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l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a1c0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Hillary_Clinton_Leads"/>
          <p:cNvPicPr/>
          <p:nvPr/>
        </p:nvPicPr>
        <p:blipFill>
          <a:blip r:embed="rId1"/>
          <a:stretch/>
        </p:blipFill>
        <p:spPr>
          <a:xfrm>
            <a:off x="3143160" y="1766880"/>
            <a:ext cx="2857680" cy="33242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236232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lary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britney_spears01"/>
          <p:cNvPicPr/>
          <p:nvPr/>
        </p:nvPicPr>
        <p:blipFill>
          <a:blip r:embed="rId2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2362320" y="6858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tney S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1:00:21Z</dcterms:created>
  <dc:creator>Karen Boles</dc:creator>
  <dc:description/>
  <dc:language>en-US</dc:language>
  <cp:lastModifiedBy>Rsy Fox</cp:lastModifiedBy>
  <dcterms:modified xsi:type="dcterms:W3CDTF">2012-02-22T00:11:36Z</dcterms:modified>
  <cp:revision>21</cp:revision>
  <dc:subject/>
  <dc:title>Famous People</dc:title>
</cp:coreProperties>
</file>